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CDB-0506-49A4-A4AB-4E3552CF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BBE-0F93-431A-963E-97E847AE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43A-35EA-45EA-B1C9-9F5532A0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0F2-C5B6-4F8E-A8EB-270A6849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71B5-55A3-4277-8029-C8AE48B9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9217-8AED-43C2-A2F5-7621C750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7900-1543-488A-BAC9-CE848CAB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1C0A-05DF-4DAC-8C1A-FC96831E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F0F2-4571-4A54-B978-2C77CDA2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970F-4EA1-46FC-A160-B663F4A6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1773-FFC1-4047-8852-387D14C1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DD6-58B5-4B36-9EBB-C8BB0E9E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B1D0-5BF2-4BD1-8172-4E4321EB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2B3A-3803-4A8F-AFA3-938B73C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D3B2-5A11-4CAB-86D7-36143AEC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77A8-831A-46BF-AE0A-372DDCD3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63A0-0C8D-413F-B959-F2FF9644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4F6-9915-405B-8704-B47ABE43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119-925C-4CE3-B73D-890A2BA5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33E-32AA-4E55-9015-9D3FDEF8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657-D261-4E8B-A24A-F59BE789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070-8E3D-49BD-BE5A-88609266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793-2626-4288-97DC-DCE52C8F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8BE-FA9C-4B44-B039-E883CDF1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22F4-CA50-474D-9BE9-2C7EB12744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1AA8-513E-4D52-937C-62A875B65B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graphics8.nytimes.com/images/2008/12/15/us/15blago-480.jpg&amp;imgrefurl=http://thecaucus.blogs.nytimes.com/2008/12/19/blagojevich-to-make-statement/&amp;usg=__mAXb3rrwJ6qmFiIbOiu7Y8cIngg=&amp;h=274&amp;w=480&amp;sz=25&amp;hl=en&amp;start=4&amp;tbnid=2RTacCoxjummrM:&amp;tbnh=74&amp;tbnw=129&amp;prev=/images%3Fq%3Dpictures%2Bof%2Bblagojevich%26hl%3Den%26sa%3DX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r going shopping for cloths i hope the children if they wish can come with me to main street to watch the thanksgiving day pa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mopho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ell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pital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er no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er adj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’re going shopping for clothes, I hope the children, if they wish, can come with me to Main Street to watch the Thanksgiving Day par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ex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 of annoying or irrit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estilen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usually fatal epidemic disease, evi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quisitiv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n to inquiry, research, or asking questions; eager for knowledge; intellectually curio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ild is inquisitive and always ask a million ques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dific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al improvement or guid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The priest offered the man edification for his bad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ar Sent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e up with at least one sentence using 5 of the vocabulary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Dialect-The author uses Southern dialect extensively to provide a more authentic portrayal of the people. Rewrite each of these examples of southern dialect into standard speech.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Looks like if Mr. Arthur was hankerin’ after heaven he’d come out on the porch at le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cious child, I was raveling a thread, wasn’t even thinking about your fa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awl write, hear? he bawled after 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one paragraph using dialect in some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TKAM-Ch. 5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ish Ch. 5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Focused Freewrite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5 minut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$100,000 per year digging holes with a shovel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$30,000 per year playing your favorite sport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ocabulary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word doesn’t have a sentence, write one for it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llicitl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permit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The Governor has been accused of illicit acti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886200"/>
            <a:ext cx="4419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ranqui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 from commotion or tum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32004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equit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ck of equity; unfairness; favoritism or bi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The trial was filled with inequ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25909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ractio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ily angered or unru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The student was kicked out of the game for fractious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sapprob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tific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iliation or sh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25:28Z</dcterms:created>
  <dc:creator>rebecca</dc:creator>
  <dc:description/>
  <dc:language>en-US</dc:language>
  <cp:lastModifiedBy>rebecca</cp:lastModifiedBy>
  <dcterms:modified xsi:type="dcterms:W3CDTF">2009-01-26T17:59:51Z</dcterms:modified>
  <cp:revision>2</cp:revision>
  <dc:subject/>
  <dc:title>DOL</dc:title>
</cp:coreProperties>
</file>